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6E4-87F7-411B-8F18-145D443D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D39F-04F4-4DD7-BCA4-08DF980A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0ED2-BCA4-41D8-9CE1-DA9E4593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12E-7BA0-4CB7-8C4C-A9E3A97F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4FB-B338-4600-B0A4-E4443640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1E1-C7C5-4D12-899E-02D8800F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457-FD5D-4FCA-A887-B9131A87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3624-FDC0-4F4B-9BA4-93B20B033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E30-B69A-4C59-8F41-E505B4D9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913-44C7-44C4-B86C-F31627E76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F37-7436-4687-964E-504AC988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272-B8EB-4F04-9D0B-3ABE930D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051-6FCB-4389-9EA2-2937369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0D0-4FFB-48BF-87CE-69F3A3B1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9B3-BA2C-42A2-B267-D2BB3934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430-CBCC-441D-B420-05820210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D03-CA82-4CF5-B379-1354BAB5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AE7-AA73-43C5-A4BC-AADFF232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68B-8845-4162-815D-7CAEA650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D27-4A11-4251-9CBA-BD128F7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18E-9A74-4E73-A421-EB1340F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7B4-3AD5-4237-A52E-E59A8E7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A53-9296-4230-AF8A-3B4BFD1A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ward to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19303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772400" y="571644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80880" y="762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tex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1240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steemed autho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rcRect l="7501" t="0" r="7501" b="0"/>
          <a:stretch/>
        </p:blipFill>
        <p:spPr>
          <a:xfrm>
            <a:off x="6172200" y="228600"/>
            <a:ext cx="19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r and appropriate target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’s important in your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tate it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at will it look like if students hit your targe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3520" y="19810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5800" y="3200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urate assessment is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Assessment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Bias and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d appropriate targe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assessment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 assessment requires 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Lit.: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4724280" y="1905120"/>
            <a:ext cx="2338560" cy="103320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5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4678920" y="19065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0"/>
          <p:cNvSpPr/>
          <p:nvPr/>
        </p:nvSpPr>
        <p:spPr>
          <a:xfrm flipH="1">
            <a:off x="46479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6"/>
          <p:cNvSpPr txBox="1"/>
          <p:nvPr/>
        </p:nvSpPr>
        <p:spPr>
          <a:xfrm>
            <a:off x="152280" y="228600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37"/>
          <p:cNvSpPr txBox="1"/>
          <p:nvPr/>
        </p:nvSpPr>
        <p:spPr>
          <a:xfrm>
            <a:off x="7238880" y="2209680"/>
            <a:ext cx="1791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39"/>
          <p:cNvSpPr txBox="1"/>
          <p:nvPr/>
        </p:nvSpPr>
        <p:spPr>
          <a:xfrm>
            <a:off x="1219320" y="3657600"/>
            <a:ext cx="1790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40"/>
          <p:cNvSpPr txBox="1"/>
          <p:nvPr/>
        </p:nvSpPr>
        <p:spPr>
          <a:xfrm>
            <a:off x="6095880" y="365760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hapter 5, 6, 7, 8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is the process of gathering evidence of student learning in order to inform instructional decision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iggins - 5th ed. pag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19558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30099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“A Story of Assessment for Student Success” (p. 6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realistic?  Would it work in your school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ust be authentical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set good targets and evalua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activities must match targets,  must be tuned to learner’s initial state and well sequenced there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communicate well to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ssment exemp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must be accu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take responsibility for their own lear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role o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gins claims that schools have moved from rank ordering students to ensuring their achievement of a specified level of accomplish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f th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892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1066680" y="533520"/>
            <a:ext cx="7010640" cy="106020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Qualit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2063880" y="1835280"/>
            <a:ext cx="2044440" cy="113652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4900680" y="1919160"/>
            <a:ext cx="2338200" cy="1033560"/>
          </a:xfrm>
          <a:prstGeom prst="octagon">
            <a:avLst>
              <a:gd name="adj" fmla="val 29282"/>
            </a:avLst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3200400" y="3220920"/>
            <a:ext cx="2743200" cy="9842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126880" y="1932120"/>
            <a:ext cx="1991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’s the purp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will use the resul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854960" y="1920960"/>
            <a:ext cx="2417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learning target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they clear?  Appropr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200400" y="3352680"/>
            <a:ext cx="2666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meth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3886200" y="2895480"/>
            <a:ext cx="29196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4876560" y="2895480"/>
            <a:ext cx="228600" cy="292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572000" y="4267080"/>
            <a:ext cx="0" cy="6098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6"/>
          <p:cNvSpPr/>
          <p:nvPr/>
        </p:nvSpPr>
        <p:spPr>
          <a:xfrm>
            <a:off x="3276720" y="4952880"/>
            <a:ext cx="2743200" cy="1067040"/>
          </a:xfrm>
          <a:prstGeom prst="ellipse">
            <a:avLst/>
          </a:prstGeom>
          <a:solidFill>
            <a:srgbClr val="5f8cf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3200400" y="5181480"/>
            <a:ext cx="285768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o whom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H="1" flipV="1">
            <a:off x="2514240" y="304776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92040" y="647712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.2, p. 20 –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-Invol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sess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the result of changes made in the mind of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149480" y="463680"/>
            <a:ext cx="6845040" cy="143496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618ffd"/>
              </a:gs>
              <a:gs pos="50000">
                <a:srgbClr val="1d2b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Principles of Quality Assess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 St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essment can promote &amp; verif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assessment must be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-leve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02:07Z</dcterms:created>
  <dc:creator>Mark Roddy</dc:creator>
  <dc:description/>
  <dc:language>en-US</dc:language>
  <cp:lastModifiedBy>Seattle University</cp:lastModifiedBy>
  <dcterms:modified xsi:type="dcterms:W3CDTF">2008-09-24T21:12:40Z</dcterms:modified>
  <cp:revision>14</cp:revision>
  <dc:subject/>
  <dc:title>Onward to Chapter 1</dc:title>
</cp:coreProperties>
</file>